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346-51EE-4789-BA92-7D256BEF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FE9-21B6-406F-91ED-C768A5F9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E2D-7541-4EDB-81A9-88FF47FD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858-E80C-4A8B-AEC0-81CF3173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444-D0BE-4803-BB47-96D355D0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1DF-1741-42B8-AEE8-652ECEED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998-45C7-47A3-9A43-CA2642A6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5EC-6341-4F8C-83F5-BD7F14DB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BC2-318C-48A0-AD9D-A83DE3BD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E06-8D6E-41B8-BC71-DADED858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4E2-7152-42DD-8725-28877AD7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831-E47C-4208-9060-0F51635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02CB-F07C-4E74-9B9F-CE8B15DA7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51400">
            <a:off x="0" y="990360"/>
            <a:ext cx="54673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ff00"/>
                    </a:gs>
                    <a:gs pos="100000">
                      <a:srgbClr val="ff00ff"/>
                    </a:gs>
                  </a:gsLst>
                  <a:lin ang="9348000"/>
                </a:gradFill>
                <a:latin typeface="Candara"/>
              </a:rPr>
              <a:t>WILLI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ff00"/>
                  </a:gs>
                  <a:gs pos="100000">
                    <a:srgbClr val="ff00ff"/>
                  </a:gs>
                </a:gsLst>
                <a:lin ang="9348000"/>
              </a:gradFill>
              <a:latin typeface="Candara"/>
              <a:ea typeface="Candara"/>
            </a:endParaRPr>
          </a:p>
        </p:txBody>
      </p:sp>
      <p:sp>
        <p:nvSpPr>
          <p:cNvPr id="42" name=""/>
          <p:cNvSpPr txBox="1"/>
          <p:nvPr/>
        </p:nvSpPr>
        <p:spPr>
          <a:xfrm rot="20379000">
            <a:off x="2556000" y="4259160"/>
            <a:ext cx="647676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ff00"/>
                    </a:gs>
                    <a:gs pos="100000">
                      <a:srgbClr val="ff00ff"/>
                    </a:gs>
                  </a:gsLst>
                  <a:lin ang="9324000"/>
                </a:gradFill>
                <a:latin typeface="Candara"/>
              </a:rPr>
              <a:t>SHAKESPE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ff00"/>
                  </a:gs>
                  <a:gs pos="100000">
                    <a:srgbClr val="ff00ff"/>
                  </a:gs>
                </a:gsLst>
                <a:lin ang="9324000"/>
              </a:gradFill>
              <a:latin typeface="Candara"/>
              <a:ea typeface="Candar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319600">
            <a:off x="3047760" y="1676160"/>
            <a:ext cx="244296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2819520"/>
            <a:ext cx="2743200" cy="2819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457200"/>
            <a:ext cx="2743200" cy="2819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5400000">
            <a:off x="-2304720" y="2838240"/>
            <a:ext cx="6095880" cy="1028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Rounded MT Bold"/>
              </a:rPr>
              <a:t>SONNE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7" name=""/>
          <p:cNvSpPr txBox="1"/>
          <p:nvPr/>
        </p:nvSpPr>
        <p:spPr>
          <a:xfrm rot="5400000">
            <a:off x="6819480" y="278136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Rounded MT Bold"/>
              </a:rPr>
              <a:t>1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808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63244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8672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15400" y="205740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41972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15400" y="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662940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487692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53480" y="72388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58672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04812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62940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121932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51460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30492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5228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6294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1430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472428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34520" y="34290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534520" y="66294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095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50000">
              <a:srgbClr val="000000"/>
            </a:gs>
            <a:gs pos="100000">
              <a:srgbClr val="1c1c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371600" y="152280"/>
            <a:ext cx="577224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lephant"/>
              </a:rPr>
              <a:t>TWELF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421000" cy="3429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828800" y="5334120"/>
            <a:ext cx="491004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lephant"/>
              </a:rPr>
              <a:t>NIGH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209680"/>
            <a:ext cx="2438280" cy="2743200"/>
          </a:xfrm>
          <a:prstGeom prst="donut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133720"/>
            <a:ext cx="2438640" cy="2743200"/>
          </a:xfrm>
          <a:prstGeom prst="donut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3048120"/>
            <a:ext cx="4257720" cy="3628440"/>
            <a:chOff x="0" y="3048120"/>
            <a:chExt cx="4257720" cy="3628440"/>
          </a:xfrm>
        </p:grpSpPr>
        <p:sp>
          <p:nvSpPr>
            <p:cNvPr id="79" name="Gear"/>
            <p:cNvSpPr/>
            <p:nvPr/>
          </p:nvSpPr>
          <p:spPr>
            <a:xfrm>
              <a:off x="2360520" y="3048120"/>
              <a:ext cx="1897200" cy="1663560"/>
            </a:xfrm>
            <a:prstGeom prst="pi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733560"/>
              <a:ext cx="2268360" cy="1989000"/>
            </a:xfrm>
            <a:prstGeom prst="pi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71320" y="4467240"/>
              <a:ext cx="2521080" cy="2209320"/>
            </a:xfrm>
            <a:prstGeom prst="pie">
              <a:avLst/>
            </a:prstGeom>
            <a:solidFill>
              <a:srgbClr val="4221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724280" y="1523880"/>
            <a:ext cx="4257720" cy="3629160"/>
            <a:chOff x="4724280" y="1523880"/>
            <a:chExt cx="4257720" cy="3629160"/>
          </a:xfrm>
        </p:grpSpPr>
        <p:sp>
          <p:nvSpPr>
            <p:cNvPr id="83" name="Gear"/>
            <p:cNvSpPr/>
            <p:nvPr/>
          </p:nvSpPr>
          <p:spPr>
            <a:xfrm>
              <a:off x="7084800" y="1523880"/>
              <a:ext cx="1897200" cy="1663920"/>
            </a:xfrm>
            <a:prstGeom prst="pie">
              <a:avLst/>
            </a:prstGeom>
            <a:solidFill>
              <a:srgbClr val="4221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209680"/>
              <a:ext cx="2268360" cy="1989360"/>
            </a:xfrm>
            <a:prstGeom prst="pie">
              <a:avLst/>
            </a:prstGeom>
            <a:solidFill>
              <a:srgbClr val="4221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95600" y="2943360"/>
              <a:ext cx="2521080" cy="2209680"/>
            </a:xfrm>
            <a:prstGeom prst="pi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romeo-and-juliet.jpg"/>
          <p:cNvPicPr/>
          <p:nvPr/>
        </p:nvPicPr>
        <p:blipFill>
          <a:blip r:embed="rId1"/>
          <a:stretch/>
        </p:blipFill>
        <p:spPr>
          <a:xfrm>
            <a:off x="2057400" y="1676520"/>
            <a:ext cx="5043600" cy="4894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14400" y="228600"/>
            <a:ext cx="7162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meo and julie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1:08:11Z</dcterms:created>
  <dc:creator>John</dc:creator>
  <dc:description/>
  <dc:language>en-US</dc:language>
  <cp:lastModifiedBy>John</cp:lastModifiedBy>
  <dcterms:modified xsi:type="dcterms:W3CDTF">2009-04-12T21:36:13Z</dcterms:modified>
  <cp:revision>5</cp:revision>
  <dc:subject/>
  <dc:title>Slide 1</dc:title>
</cp:coreProperties>
</file>